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89648"/>
        <c:axId val="20988015"/>
      </c:barChart>
      <c:catAx>
        <c:axId val="24789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8015"/>
        <c:crosses val="autoZero"/>
        <c:auto val="1"/>
        <c:lblAlgn val="ctr"/>
        <c:lblOffset val="100"/>
        <c:noMultiLvlLbl val="0"/>
      </c:catAx>
      <c:valAx>
        <c:axId val="20988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89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00B-0131-40E3-95D7-F315C211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DD5-C2D2-4E44-93B3-6FBD8CBF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CA2-D54F-4FF0-B0F2-E487BAB4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657-7DCA-4F00-B87C-9E3865F9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12D-0076-4253-8CDF-A80DE8A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3DA-3FD2-4A0A-978E-A48F518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760-C30D-4005-A67A-51647A46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6C8-445A-4C4D-B578-0F310C12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510-7E19-4A38-A502-8EC6BB20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DEC-3F87-4A21-9E24-4855316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131-FB65-43A9-BE84-35F3CE3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EAE-A9B5-43EA-BD34-8297DF2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54F1-73CF-42FB-83E7-DBD4F21DE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