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67724"/>
        <c:axId val="23743314"/>
      </c:barChart>
      <c:catAx>
        <c:axId val="72567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43314"/>
        <c:crosses val="autoZero"/>
        <c:auto val="1"/>
        <c:lblAlgn val="ctr"/>
        <c:lblOffset val="100"/>
        <c:noMultiLvlLbl val="0"/>
      </c:catAx>
      <c:valAx>
        <c:axId val="23743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67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8B9-981A-40BA-B0B2-9EA48365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C11-CC43-4326-8028-8893C6FE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3D9-F9F0-4B6E-976C-5ABBCDF5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4F7-2C9F-4390-A53E-0330429F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722-0B63-454C-AB61-868C53BA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69F-D99D-4479-9954-414A612C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112-F9B5-4D43-A776-FC8E17B4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0F4-535C-49F8-B600-D0CED963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240-4E76-4C83-8521-6B4A0EAD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E77-2291-41DE-BA4F-C3D7DF75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5F8-8296-412E-9D69-673CDD49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CED-15B1-4010-AF32-83EA7AEC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B61CD-6190-4077-8517-0C0EE21601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