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49227"/>
        <c:axId val="79315700"/>
      </c:barChart>
      <c:catAx>
        <c:axId val="13149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15700"/>
        <c:crosses val="autoZero"/>
        <c:auto val="1"/>
        <c:lblAlgn val="ctr"/>
        <c:lblOffset val="100"/>
        <c:noMultiLvlLbl val="0"/>
      </c:catAx>
      <c:valAx>
        <c:axId val="79315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49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6EC-0F40-4FF0-ACE5-8D544231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CBF2-36AB-4ED9-8680-43BD0817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698-67C9-48DD-BC8A-7AD7EC2E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D1B0-4EE4-4F71-A21D-65327D31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D57-924C-4881-8EA2-E6552A5D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F0C4-6D64-42A1-973B-FD809843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E20-ED2B-4572-9314-F2F42402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D7AF-99B4-4D80-BB52-2A05E776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404-6421-429D-AC63-F404F3FA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017-71E7-47AB-A3AE-2DAF617E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A1E5-FB8B-40B4-812A-CC3B8BF4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EC1B-7B17-4A8A-B915-BA6E0F7E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1C471-C53F-4B18-8B3A-9DE841FAA1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