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08917"/>
        <c:axId val="78405782"/>
      </c:barChart>
      <c:catAx>
        <c:axId val="66508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05782"/>
        <c:crosses val="autoZero"/>
        <c:auto val="1"/>
        <c:lblAlgn val="ctr"/>
        <c:lblOffset val="100"/>
        <c:noMultiLvlLbl val="0"/>
      </c:catAx>
      <c:valAx>
        <c:axId val="78405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08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EBCB-F0C7-4FE5-9D1B-43389A98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B9B-D12F-4FDF-B4D5-B0E9D694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9B3-F036-4C02-8661-0A91BEC8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0EAA-87ED-4948-A6D4-039E1C37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0F5-C18A-44AF-A350-700B5E0A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DA79-89DF-4E09-AFC0-5F621057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16F-BED8-4C0E-9B2A-0DB1A38D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DBD-07DF-4FB1-9675-31FD0073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E29-1D0F-4C47-A435-F3F0B91D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AFB0-31E0-4969-A711-78C7196B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EA32-ED37-4D9B-96A4-ED1D62ED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D6A2-B3BE-476C-AFC4-E2305678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DE7B6-6A2F-4D88-B346-BAFD272FF5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