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39111"/>
        <c:axId val="12514192"/>
      </c:barChart>
      <c:catAx>
        <c:axId val="34639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14192"/>
        <c:crosses val="autoZero"/>
        <c:auto val="1"/>
        <c:lblAlgn val="ctr"/>
        <c:lblOffset val="100"/>
        <c:noMultiLvlLbl val="0"/>
      </c:catAx>
      <c:valAx>
        <c:axId val="12514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39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A10-5332-4285-8D5B-C2C6BFD2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9EE-A7FD-4B0D-8DED-27FF53FC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4DB-CB3D-4BCF-8BB8-BA2A4287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DD8-C3BE-4673-A8E8-F446E871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64B-3294-453E-84D5-90AA93D0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C15-4542-47DB-A1F8-3CADDE2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7BA-F32F-459F-AA6D-8A5AD4D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8E1-C4C6-4F63-8DD3-532F223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F4F-4161-4326-AE8E-D7E7617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E11-150F-4475-8B16-2F7D312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682-C188-4ED8-A8CA-87D3CE3A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254-5038-4333-8AD6-CA84A53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43D3-D758-4B10-924C-E9509405C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