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7544-8E3B-4889-B64B-806204258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5E11-0FA5-4FE6-B797-60548B3E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FFC-D681-439F-97D4-24A8D87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F7C-F2D5-435A-96AC-8BE316925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E01-6615-4530-B64F-AAD530494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3A3AC-06DE-4D04-86D4-D0813F4C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FA36-8115-4644-9AC6-F79777E8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738B-A1CD-4E94-B24C-FF8F5CEA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0688-73D3-4138-9738-E02A51306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D86-3AC0-478C-801E-0ED272B05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67D0-483E-4B4B-9BF7-29B60A156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3149-DD54-4460-B296-CAE3B0037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D5B24-92E2-4C13-92D1-4FDBCBBD03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9669" t="0" r="11116" b="-4850"/>
          <a:stretch/>
        </p:blipFill>
        <p:spPr>
          <a:xfrm>
            <a:off x="1025640" y="2170080"/>
            <a:ext cx="4614840" cy="917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5" descr=""/>
          <p:cNvPicPr/>
          <p:nvPr/>
        </p:nvPicPr>
        <p:blipFill>
          <a:blip r:embed="rId2"/>
          <a:stretch/>
        </p:blipFill>
        <p:spPr>
          <a:xfrm>
            <a:off x="1104840" y="4597560"/>
            <a:ext cx="4869000" cy="669600"/>
          </a:xfrm>
          <a:prstGeom prst="rect">
            <a:avLst/>
          </a:prstGeom>
          <a:ln w="0">
            <a:noFill/>
          </a:ln>
        </p:spPr>
      </p:pic>
      <p:sp>
        <p:nvSpPr>
          <p:cNvPr id="43" name="AutoShape 6"/>
          <p:cNvSpPr/>
          <p:nvPr/>
        </p:nvSpPr>
        <p:spPr>
          <a:xfrm>
            <a:off x="2928960" y="3060720"/>
            <a:ext cx="3789360" cy="14922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92200"/>
              <a:gd name="textAreaBottom" fmla="*/ 1492560 h 14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4721400" y="3040200"/>
            <a:ext cx="2097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repository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item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utoShape 8"/>
          <p:cNvSpPr/>
          <p:nvPr/>
        </p:nvSpPr>
        <p:spPr>
          <a:xfrm>
            <a:off x="6681960" y="545004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2880360" y="3121200"/>
            <a:ext cx="1654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View Item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10"/>
          <p:cNvSpPr/>
          <p:nvPr/>
        </p:nvSpPr>
        <p:spPr>
          <a:xfrm>
            <a:off x="2819520" y="5270400"/>
            <a:ext cx="3789360" cy="1454400"/>
          </a:xfrm>
          <a:custGeom>
            <a:avLst/>
            <a:gdLst>
              <a:gd name="textAreaLeft" fmla="*/ 0 w 3789360"/>
              <a:gd name="textAreaRight" fmla="*/ 3789720 w 3789360"/>
              <a:gd name="textAreaTop" fmla="*/ 0 h 1454400"/>
              <a:gd name="textAreaBottom" fmla="*/ 1454760 h 145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554360" y="5392800"/>
            <a:ext cx="2097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ession i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profile i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sourc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destination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eorgi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2814120" y="5353200"/>
            <a:ext cx="1825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Click Through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QL Mapp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AutoShape 13"/>
          <p:cNvSpPr/>
          <p:nvPr/>
        </p:nvSpPr>
        <p:spPr>
          <a:xfrm>
            <a:off x="6740640" y="3233880"/>
            <a:ext cx="1212840" cy="1101600"/>
          </a:xfrm>
          <a:prstGeom prst="flowChartMagneticDisk">
            <a:avLst/>
          </a:prstGeom>
          <a:solidFill>
            <a:srgbClr val="ff9933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8:48:21Z</dcterms:created>
  <dc:creator>Dmitry Zamula</dc:creator>
  <dc:description/>
  <dc:language>en-US</dc:language>
  <cp:lastModifiedBy>Dmitry Zamula</cp:lastModifiedBy>
  <dcterms:modified xsi:type="dcterms:W3CDTF">2012-05-04T10:47:55Z</dcterms:modified>
  <cp:revision>7</cp:revision>
  <dc:subject/>
  <dc:title>Test</dc:title>
</cp:coreProperties>
</file>