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Administrator" initials="A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8-08-04T23:27:14.875000000" idx="1">
    <p:pos x="10" y="10"/>
    <p:text>This is a test comment
It is on the first, only slide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0033-AA01-4462-BF50-2C577655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6F29D-5885-46D5-9B2C-4880D2B14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9230-96BB-41AF-857B-DA19C3B5C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39F5-4AF7-4D01-92DE-B08809268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8EE4-7F71-47F9-990E-1F1C9971F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980F-C265-4114-B368-D63CE86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C208-E3CB-49B8-AC0A-3B09DAD0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FB5A-7007-4D89-9FD8-6E7073AF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0F29-C18A-45A5-A4E2-35F0C48F5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C4B2-74F3-4B5A-BD5B-567DE257E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B9A2-D35A-45F6-866E-323431A27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A209-5CFC-453E-B287-3BA1E0EA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DAC0-8DC4-4662-9D45-9A7790BA5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a comment on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22:27:16Z</dcterms:created>
  <dc:creator>Administrator</dc:creator>
  <dc:description/>
  <dc:language>en-US</dc:language>
  <cp:lastModifiedBy>Administrator</cp:lastModifiedBy>
  <dcterms:modified xsi:type="dcterms:W3CDTF">2008-08-04T22:27:24Z</dcterms:modified>
  <cp:revision>1</cp:revision>
  <dc:subject/>
  <dc:title>Test Slide</dc:title>
</cp:coreProperties>
</file>