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44A2C-0E46-4776-8EE0-B22B278BB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4169-3547-4F7B-BFAD-A9F0290A9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2953-3EBB-400E-A894-83A54B44E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028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7640" y="17679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028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7640" y="4055760"/>
            <a:ext cx="285408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F6B4-3E57-45E9-B75B-82A606307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3E2-C5F8-4CBB-8B49-F9D1259B1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BF24-A64E-4172-9B16-473498048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CDFC-04D3-4E95-9650-A541DBE6C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E1BA-8F24-43DD-970D-5586D406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A011-07C5-45A9-B044-F9F1F3916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4600-1204-45A9-8413-C3C5B8484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5760" y="40557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CA7-6611-4BC2-A2B0-044FF0D1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5760" y="1767960"/>
            <a:ext cx="432576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5760"/>
            <a:ext cx="8864640" cy="2089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C886-53BD-4C63-81CA-9893D3E4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886464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CA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BF4637-0C0E-4805-B99B-E625F4B40AE8}" type="slidenum">
              <a:rPr b="0" lang="en-CA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Title should sh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5724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2522520" y="3749760"/>
          <a:ext cx="5074920" cy="731880"/>
        </p:xfrm>
        <a:graphic>
          <a:graphicData uri="http://schemas.openxmlformats.org/drawingml/2006/table">
            <a:tbl>
              <a:tblPr/>
              <a:tblGrid>
                <a:gridCol w="1014480"/>
                <a:gridCol w="1014840"/>
                <a:gridCol w="1014480"/>
                <a:gridCol w="1014840"/>
                <a:gridCol w="1016280"/>
              </a:tblGrid>
              <a:tr h="36576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ith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b3b3b3"/>
                    </a:solidFill>
                  </a:tcPr>
                </a:tc>
              </a:tr>
              <a:tr h="366120"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62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723960"/>
                          <a:tab algn="l" pos="1447920"/>
                          <a:tab algn="l" pos="2171880"/>
                          <a:tab algn="l" pos="2895480"/>
                          <a:tab algn="l" pos="3619440"/>
                          <a:tab algn="l" pos="4343400"/>
                          <a:tab algn="l" pos="506736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8T21:56:53Z</dcterms:created>
  <dc:creator>Philip Persad</dc:creator>
  <dc:description/>
  <dc:language>en-US</dc:language>
  <cp:lastModifiedBy/>
  <cp:revision>0</cp:revision>
  <dc:subject/>
  <dc:title/>
</cp:coreProperties>
</file>