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93322"/>
        <c:axId val="77763082"/>
      </c:barChart>
      <c:catAx>
        <c:axId val="62193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63082"/>
        <c:crosses val="autoZero"/>
        <c:auto val="1"/>
        <c:lblAlgn val="ctr"/>
        <c:lblOffset val="100"/>
        <c:noMultiLvlLbl val="0"/>
      </c:catAx>
      <c:valAx>
        <c:axId val="77763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93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B6E-2D67-40D4-96BB-9D0A0480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A5C1-D339-4086-A2C0-ACBAB03A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408-1AC4-47A5-8560-2AF82E35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38C-3A1C-4E3B-9C65-25390CDF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6AB-7907-4103-AF84-727E9CEC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B0F-7086-4A76-BCFF-9635965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AE0-4759-46BE-9D56-9078715B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A79-F50B-4D2C-8285-811B781B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BE2-E09B-4500-BA92-347D09D3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193D-977B-4F87-BF20-C571233C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CFC-1E6D-434D-9A38-32F86F1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78C-68EF-4BC2-8897-B9B00861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2E27A-D646-49D5-8991-11A7F7E136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