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71754"/>
        <c:axId val="42809347"/>
      </c:barChart>
      <c:catAx>
        <c:axId val="21871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09347"/>
        <c:crosses val="autoZero"/>
        <c:auto val="1"/>
        <c:lblAlgn val="ctr"/>
        <c:lblOffset val="100"/>
        <c:noMultiLvlLbl val="0"/>
      </c:catAx>
      <c:valAx>
        <c:axId val="42809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71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412-4B34-4836-A64A-46E03BF2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2C8-8048-4B7E-A5C9-A4D4DA96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FED-741B-4A3D-9D25-60F22C794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653-5C77-49FE-AFF7-314AB84D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23D-0527-4994-B593-F7DB5C25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0F5-2245-4A3F-BADA-3D07A16C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5CD-0C57-4695-A0AD-62DA855C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D194-2062-4ECD-9E05-2C5A3847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4AE-1CD3-432C-9FAF-B8158642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3808-783A-4E77-A1F6-05A30600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BFD-FEFC-4981-B16A-2A6EE09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2D3-2716-4944-AF84-9A055343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229BD-64DB-45AE-B7C2-95B3CF8A3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