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81413"/>
        <c:axId val="61767787"/>
      </c:barChart>
      <c:catAx>
        <c:axId val="51881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67787"/>
        <c:crosses val="autoZero"/>
        <c:auto val="1"/>
        <c:lblAlgn val="ctr"/>
        <c:lblOffset val="100"/>
        <c:noMultiLvlLbl val="0"/>
      </c:catAx>
      <c:valAx>
        <c:axId val="61767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81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780-2F59-4800-9870-2CA3B1AB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03C-7339-4720-90F9-2F78FF2D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B89-AEB5-4686-BC3A-E5F0C15E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837-2BBE-471B-9640-E2750AB8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21A-DF3F-41C3-89AE-3A4331E8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393-8B39-4289-8587-9ED3458E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BA6-5D6C-45A4-B332-786FF743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900-4D6A-48AE-BAAE-74363BEC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F84-226B-4D04-85DC-C9F310B1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938-A396-4820-8E05-0253AD9F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F0B-552B-47EE-B0A8-54D198E3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7B3-BCF5-4DA0-8593-759D6C2B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68870-6DE5-4690-BA66-9711C19D9B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