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36022"/>
        <c:axId val="35610063"/>
      </c:barChart>
      <c:catAx>
        <c:axId val="11536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10063"/>
        <c:crosses val="autoZero"/>
        <c:auto val="1"/>
        <c:lblAlgn val="ctr"/>
        <c:lblOffset val="100"/>
        <c:noMultiLvlLbl val="0"/>
      </c:catAx>
      <c:valAx>
        <c:axId val="35610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36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0EB-C985-4122-967B-212C1BD7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F69-7ACC-4154-BF35-A6CE8DCA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C78-F568-4A12-B84E-4A9BB75B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37D-25F8-450B-9980-43EAB7A7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93B-E789-476E-9DFD-24B5B4D3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12A-621E-4B80-9E6E-6974A42B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F6B-D7C9-4449-82EE-2536B990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CA4-E50C-42C4-9DBD-2E269C2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522-B7A2-4BC0-B1E0-C3578EE8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220-895B-4D13-A52F-DF9C098E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88B-A695-48F3-AABF-3228C4BD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5DF-10AC-429E-B609-2FC09A8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04C14-4AB6-4C90-B1D7-49F55E1E8E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