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48595"/>
        <c:axId val="46563063"/>
      </c:barChart>
      <c:catAx>
        <c:axId val="59148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63063"/>
        <c:crosses val="autoZero"/>
        <c:auto val="1"/>
        <c:lblAlgn val="ctr"/>
        <c:lblOffset val="100"/>
        <c:noMultiLvlLbl val="0"/>
      </c:catAx>
      <c:valAx>
        <c:axId val="46563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8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80F-D56C-4C3A-A366-A5D7AB02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6B9-8636-4362-9DBB-2212A56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BB1-D836-4B7F-B6F2-C36EF37C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FB4-801B-4EEF-8F8C-B3809275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990-06E0-4482-9BF0-F3B5D437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1B3-EC88-4712-84B7-EB9088D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209-7ABC-4DAC-8D7F-AEAB007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2BB-90E5-4466-A706-5759CFA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53B-875B-490A-9FA3-3F14376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DDE-E7CE-41BE-964D-D3EAE9E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67D-75D5-40D1-AE69-648F46B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175-3255-4E4D-9B69-CFA8739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D2992-DD27-4125-A29B-03D5AAF557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