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84294"/>
        <c:axId val="24375397"/>
      </c:barChart>
      <c:catAx>
        <c:axId val="86284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75397"/>
        <c:crosses val="autoZero"/>
        <c:auto val="1"/>
        <c:lblAlgn val="ctr"/>
        <c:lblOffset val="100"/>
        <c:noMultiLvlLbl val="0"/>
      </c:catAx>
      <c:valAx>
        <c:axId val="24375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84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837-F0B1-4402-8BE4-7299314E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94C-B772-4588-8A39-9F98BE84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9F0-8728-4A7A-9171-1FE66070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D76-0954-4028-8692-91722ED5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C1A-8559-4D25-9B75-46190744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F95-F3A6-4669-9936-C9050D0C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561-2E38-49BA-9245-B25CD62D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BF1-63CD-4002-8423-6B1884EE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AE7-B266-4C34-81A4-6965A278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CED-D5B1-40C2-9D15-40D0668A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173-7348-4458-B9A9-A37A2352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C68-6B84-47D4-9A9A-A4B8187E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B21C0-B313-47F4-AF2F-BD5180B291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