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50838"/>
        <c:axId val="12656910"/>
      </c:barChart>
      <c:catAx>
        <c:axId val="86508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56910"/>
        <c:crosses val="autoZero"/>
        <c:auto val="1"/>
        <c:lblAlgn val="ctr"/>
        <c:lblOffset val="100"/>
        <c:noMultiLvlLbl val="0"/>
      </c:catAx>
      <c:valAx>
        <c:axId val="126569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508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3418-D973-4749-B0EF-FBAA46D6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EDA3-BA3A-4D3D-AF88-A376F603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767B-9BCE-41AE-8958-0C4DEF76D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309E-B8DE-4758-B500-850DE528D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8C82-F6A6-45A2-9253-461882F0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64EE-A43C-407B-94CB-7037B3FB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CD61-02D2-4B8D-93DF-2F87772A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45BB-A3C2-48DF-BCBF-6FF3DDB3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A084-3295-4047-805D-7D90AE63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D472-DF62-4B8E-8F1E-15587C86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B45C-8297-4419-8409-42356920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DD7D-A4EC-4643-AD96-DAEC52C3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79BFA-809A-4E60-92B4-B7105732B0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