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08928"/>
        <c:axId val="66587557"/>
      </c:barChart>
      <c:catAx>
        <c:axId val="7070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87557"/>
        <c:crosses val="autoZero"/>
        <c:auto val="1"/>
        <c:lblAlgn val="ctr"/>
        <c:lblOffset val="100"/>
        <c:noMultiLvlLbl val="0"/>
      </c:catAx>
      <c:valAx>
        <c:axId val="66587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0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B12-078B-423D-827C-91790DAF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589-20E0-4D74-A95A-E160E34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044-BA52-4304-9187-FB564700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253-2415-4F18-AAE2-275F9B80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501-6669-4CE2-89CF-CCB2918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5B9-0BF7-48A9-97B0-E9FC98D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20F-5ECD-4EF1-937B-8DC7FB4C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706-10F4-4B86-8BB8-011BA04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11F-6067-4236-9ABC-CD4E8385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401-04AC-4A41-9BB1-5BC971FC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262-59E9-496F-B92E-038793F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01B-50A1-4E7B-A48B-7DFB96A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A8D0-F59E-40AD-AC43-599288BDF9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