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586219"/>
        <c:axId val="55218953"/>
      </c:barChart>
      <c:catAx>
        <c:axId val="805862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18953"/>
        <c:crosses val="autoZero"/>
        <c:auto val="1"/>
        <c:lblAlgn val="ctr"/>
        <c:lblOffset val="100"/>
        <c:noMultiLvlLbl val="0"/>
      </c:catAx>
      <c:valAx>
        <c:axId val="552189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862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A127-2A4E-4DBD-A846-071C5630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C966-1921-4E2A-B532-8F646015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DD44-AFB1-4EAA-9A89-FD9D840F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999B-7391-4C79-AA5E-65213E925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3BE9-828F-4A35-BF1D-2660A988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C171-511B-4AD0-A28F-E1CAD5DD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3217-BCC6-4301-9EB1-7AC25943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27E-F9D8-48A8-82F0-F0681DBB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5A2D-CF11-45F5-8485-C452C264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90DA-0881-434E-AACF-CF88137F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678D-DAB4-42E7-8882-5C804205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C3C-7D92-4099-8535-3053857F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650C3-D9DD-4991-A529-01F954B54B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