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256225"/>
        <c:axId val="28597894"/>
      </c:barChart>
      <c:catAx>
        <c:axId val="562562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97894"/>
        <c:crosses val="autoZero"/>
        <c:auto val="1"/>
        <c:lblAlgn val="ctr"/>
        <c:lblOffset val="100"/>
        <c:noMultiLvlLbl val="0"/>
      </c:catAx>
      <c:valAx>
        <c:axId val="285978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562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3244-0962-4E7F-9ECC-86B7BD72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48A6-3A29-47F9-8CCF-31669851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D983-DEB8-48F1-9EE1-CF3090AB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56C-41F6-4746-BDCF-0A77384B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CAC8-B99B-43DC-AE91-135BA24D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3D69-E072-45CC-8B22-11B6FD5A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B2BF-5527-4E2A-9305-D7B245CD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1FA7-414A-458F-B2FC-D78B16BD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91A6-8915-40F6-85E8-DDEB1799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1EF9-8AEA-4C3A-8FDD-3D524C2B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7374-6D5E-4B38-BCB4-379A39F7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A005-D0F1-4C1E-B4D9-4B60AF22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D355C-1ECC-478A-B89F-7CEC508640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