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988712"/>
        <c:axId val="54365080"/>
      </c:barChart>
      <c:catAx>
        <c:axId val="779887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365080"/>
        <c:crosses val="autoZero"/>
        <c:auto val="1"/>
        <c:lblAlgn val="ctr"/>
        <c:lblOffset val="100"/>
        <c:noMultiLvlLbl val="0"/>
      </c:catAx>
      <c:valAx>
        <c:axId val="543650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9887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2D55-6E38-406C-819B-1FC124046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3313-E019-40D2-8725-CF3FF4E3F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7B0B-6584-43A3-977C-D7B86AAF2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1514-6F05-4C0C-983D-BDF6C48FD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0C36-8CE0-4230-96EF-7A0C56F40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6C5E-7F36-4A3D-AF34-327440B92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23D4-9EDF-48D7-B114-C99A604F1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FB35-77CB-4980-8CAB-1FBE628CF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494B-198F-4100-8357-BCEDD221E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47FD-7634-46AC-B683-10596CA83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4FF8-F44B-4722-8516-4C2217410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94A8-FD62-415D-A723-7F2A4844B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9FB760-9BF2-4C77-BE0C-BE6B597E218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