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755715"/>
        <c:axId val="37214533"/>
      </c:barChart>
      <c:catAx>
        <c:axId val="177557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214533"/>
        <c:crosses val="autoZero"/>
        <c:auto val="1"/>
        <c:lblAlgn val="ctr"/>
        <c:lblOffset val="100"/>
        <c:noMultiLvlLbl val="0"/>
      </c:catAx>
      <c:valAx>
        <c:axId val="372145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7557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8CC9-0936-439D-87CC-882E828D6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9AD6-D90E-4E7B-85B2-759F486BA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68D9-A2C1-486C-9348-C40C11E40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6A03-3E38-4B0C-B238-C87637234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3C65-9DD7-4E9D-B1AD-18D2F3097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9EA3-F943-4653-81CF-462417069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FCF4-EAFD-4985-A684-030E77EC3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3E6F-7499-443E-B753-6B9CE606D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31A3-F13B-42E6-9110-A1A03E7F3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0E3C-0EB3-4CBE-9940-024621BF7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E011-A4BB-4E23-8B5D-3823FCE1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090C-28A1-43CE-84F3-95B4AC85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C026E5-E86F-4BED-8FA2-01A6FAD29C1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