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91736"/>
        <c:axId val="90487034"/>
      </c:barChart>
      <c:catAx>
        <c:axId val="49291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87034"/>
        <c:crosses val="autoZero"/>
        <c:auto val="1"/>
        <c:lblAlgn val="ctr"/>
        <c:lblOffset val="100"/>
        <c:noMultiLvlLbl val="0"/>
      </c:catAx>
      <c:valAx>
        <c:axId val="90487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91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6BE-3DE4-48B2-9586-20309235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125-F1F4-4E08-9BEC-2A401C2D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A10-A42F-4514-867E-0628DF94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91B-43E6-40AA-95CD-C3E519DF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46D-79C3-4427-9F20-E432A694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E24-798B-455B-8108-BC6CD4D6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F77-7D18-4588-9968-336F4D03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C95-97AD-42DF-A994-A529AAAF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21C-5691-4ABC-AFE1-1E9CD31F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AFF-6F0F-4C6B-BA32-98184F9D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87C-26B7-4925-B9B7-CCEA6284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502-1240-4240-8C7C-1722C97B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67687-8F44-402E-AD45-C4EE8B3E80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