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75911"/>
        <c:axId val="37730805"/>
      </c:barChart>
      <c:catAx>
        <c:axId val="53475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30805"/>
        <c:crosses val="autoZero"/>
        <c:auto val="1"/>
        <c:lblAlgn val="ctr"/>
        <c:lblOffset val="100"/>
        <c:noMultiLvlLbl val="0"/>
      </c:catAx>
      <c:valAx>
        <c:axId val="37730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75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477-7353-4B84-8C04-C40A1907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4F2-BCEF-4769-B9A3-B023A0E7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9C6-1971-4EAE-BC2F-E59CDA21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F47-96AC-4F24-BDD8-FDC047E6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EB8-A301-468B-85B2-E93CB07D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D77-4411-4062-8B94-443320B1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D93-3548-48C4-8ADC-CD75BA42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BF4-7C08-4AA3-B096-886C2E95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BD3-3040-41AC-A060-4A2A401B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D93-8C71-41AA-8085-0BEB047D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36A-9E80-4586-BF2F-682D35F8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37E-422A-4C26-B7C4-012CFED6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6F259-EF53-4CE1-A7DD-DBECCC59EE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