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14651"/>
        <c:axId val="72208357"/>
      </c:barChart>
      <c:catAx>
        <c:axId val="41414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08357"/>
        <c:crosses val="autoZero"/>
        <c:auto val="1"/>
        <c:lblAlgn val="ctr"/>
        <c:lblOffset val="100"/>
        <c:noMultiLvlLbl val="0"/>
      </c:catAx>
      <c:valAx>
        <c:axId val="72208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14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5A5-A8B2-408D-9C30-48C243EF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F54-33DA-4257-84B7-60FA8B3B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5DD-7809-4298-BC72-06BF9F09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AF1-212A-4968-875B-ACD2767C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CA4-1E8E-4F73-9465-8875A3A2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323D-ADF5-4755-A1F3-8C4D7862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8B8-B2CA-4D93-BCC5-000A5771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1CA-9623-4423-ABEA-D6AE5AFC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7487-CD4B-41AA-905F-FC0EFF26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514-EA73-494B-93D7-0BD522B8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6D6-ABAE-42DC-A429-EA9816C8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1E4-6605-468E-B047-46320071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9E21E-1FD9-44DE-B479-FFEAC77B66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