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72987"/>
        <c:axId val="23730536"/>
      </c:barChart>
      <c:catAx>
        <c:axId val="44972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30536"/>
        <c:crosses val="autoZero"/>
        <c:auto val="1"/>
        <c:lblAlgn val="ctr"/>
        <c:lblOffset val="100"/>
        <c:noMultiLvlLbl val="0"/>
      </c:catAx>
      <c:valAx>
        <c:axId val="23730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72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848-2F51-4E0C-B69A-A122C9FB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6C0-4B8D-4DC6-A6CE-1A61AE8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D21-5D13-4735-883A-47CE1D71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34A-4A13-426E-BEFE-2C24D92E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87E-974D-47F7-87B7-55AB7BA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A86-2BDB-4D13-A404-863FEEA3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3E4-8926-4987-9BCE-C67F5652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1BC-7E05-460F-896E-93B3ACDD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BF4-13CF-4E0E-9A1D-B2707A3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B56-019F-4D69-B9FF-BA15882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EF1-B899-48F6-94F8-DA0043A1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FF6-2A07-4A0A-9207-91BE4B9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0D06-9FF9-4EE2-BB25-9F131BB1D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